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F1387-FBBD-41E7-9929-F3E1C385B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8124D-DEBE-46ED-8C85-86E257A95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BBA3A-76BA-4C3C-9CEB-FC7B8BF5F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1AF4B-3ABB-4451-8104-DA50BF0A4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B139D-3986-48AD-957F-855AF7D0C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1A859-DD5B-4CBD-881C-7C6D1D7A5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238DE-A51C-478D-B2E9-7E7A58BA8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77D20-82A6-4536-B1FF-B2C61AB7A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DD6BC-C004-4513-B586-FA320BD31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4F023-8749-4A9A-886C-996D74049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BAF19-5237-4E28-87B2-3EE466896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19F34-70D6-49DE-A9FC-FC2970CBC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364C-0B60-43EB-9DCC-6C2DBA63A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752120"/>
            <a:ext cx="6400800" cy="127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in search of out of this world Junior Crew Volunteers for the</a:t>
            </a:r>
            <a:br>
              <a:rPr sz="2400"/>
            </a:br>
            <a:r>
              <a:rPr b="1" lang="en-US" sz="2400" spc="-1" strike="noStrike">
                <a:solidFill>
                  <a:srgbClr val="000000"/>
                </a:solidFill>
                <a:latin typeface="Arial"/>
              </a:rPr>
              <a:t> GES Book Fair and Beyond!</a:t>
            </a:r>
            <a:endParaRPr b="0" lang="en-US" sz="2400" spc="-1" strike="noStrike">
              <a:solidFill>
                <a:srgbClr val="000000"/>
              </a:solidFill>
              <a:latin typeface="Arial"/>
            </a:endParaRPr>
          </a:p>
        </p:txBody>
      </p:sp>
      <p:sp>
        <p:nvSpPr>
          <p:cNvPr id="42" name="PlaceHolder 2"/>
          <p:cNvSpPr>
            <a:spLocks noGrp="1"/>
          </p:cNvSpPr>
          <p:nvPr>
            <p:ph type="subTitle"/>
          </p:nvPr>
        </p:nvSpPr>
        <p:spPr>
          <a:xfrm>
            <a:off x="228600" y="4419720"/>
            <a:ext cx="6324480" cy="44193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are interested please turn in this form to Mrs. Sproul in the media center before September 15, 2011.  Start out by filling in your name below and check the jobs that you would be interested in working.</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_______________________________________ am interested in volunteering for the following job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Book Fair Set Up after school</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Working the Book Fair during recess tim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Working the Book Fair during lunch tim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Assisting with Book Fair Commercial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Creating a Book Talk</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Breaking down the Book Fair after school</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 descr=""/>
          <p:cNvPicPr/>
          <p:nvPr/>
        </p:nvPicPr>
        <p:blipFill>
          <a:blip r:embed="rId1"/>
          <a:stretch/>
        </p:blipFill>
        <p:spPr>
          <a:xfrm>
            <a:off x="2819520" y="2971800"/>
            <a:ext cx="1131840" cy="1371600"/>
          </a:xfrm>
          <a:prstGeom prst="rect">
            <a:avLst/>
          </a:prstGeom>
          <a:ln w="0">
            <a:noFill/>
          </a:ln>
        </p:spPr>
      </p:pic>
      <p:pic>
        <p:nvPicPr>
          <p:cNvPr id="44" name="" descr=""/>
          <p:cNvPicPr/>
          <p:nvPr/>
        </p:nvPicPr>
        <p:blipFill>
          <a:blip r:embed="rId2"/>
          <a:stretch/>
        </p:blipFill>
        <p:spPr>
          <a:xfrm>
            <a:off x="2666880" y="0"/>
            <a:ext cx="1828800" cy="179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4T18:22:56Z</dcterms:created>
  <dc:creator>ssproul</dc:creator>
  <dc:description/>
  <dc:language>en-US</dc:language>
  <cp:lastModifiedBy>ssproul</cp:lastModifiedBy>
  <dcterms:modified xsi:type="dcterms:W3CDTF">2011-08-04T18:45:38Z</dcterms:modified>
  <cp:revision>2</cp:revision>
  <dc:subject/>
  <dc:title>We are in search of out of this world Junior Crew Volunteers for the  GES Book Fair and Beyond!</dc:title>
</cp:coreProperties>
</file>